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B5D-0D07-446A-820D-60FDE5AF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908-7903-4960-94D4-D6BA8F3B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954-19FA-4246-87B1-8B1EDB49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613-75E7-4D9E-84EF-450B8C45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A87-D924-48E9-8792-55677ECD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3B1-92BD-482E-9367-F6250C45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F20-1BB1-4EE2-80A4-C527AF98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9B1-406C-44C9-86C1-838E1757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725-A437-415A-8F48-7AE599A1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5E7-3A69-4602-A2A0-F138C647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202-64F0-40BE-B094-3381F2AC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162-5E9B-410E-A8A4-DB8ADD27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F43C-1B20-44E6-911E-BAA047B61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3822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75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4076640"/>
            <a:ext cx="4465800" cy="2592360"/>
          </a:xfrm>
          <a:prstGeom prst="wedgeEllipseCallout">
            <a:avLst>
              <a:gd name="adj1" fmla="val 26148"/>
              <a:gd name="adj2" fmla="val -84537"/>
            </a:avLst>
          </a:prstGeom>
          <a:gradFill rotWithShape="0">
            <a:gsLst>
              <a:gs pos="0">
                <a:srgbClr val="ffcc00">
                  <a:alpha val="72156"/>
                </a:srgbClr>
              </a:gs>
              <a:gs pos="50000">
                <a:srgbClr val="99cc00"/>
              </a:gs>
              <a:gs pos="100000">
                <a:srgbClr val="ffcc00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50846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! We are  in 1st grade at CEIP San Juan Bautista.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227640" y="4581360"/>
            <a:ext cx="1886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364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00360" y="4265640"/>
            <a:ext cx="4465440" cy="2592360"/>
          </a:xfrm>
          <a:prstGeom prst="wedgeEllipseCallout">
            <a:avLst>
              <a:gd name="adj1" fmla="val -34643"/>
              <a:gd name="adj2" fmla="val -81722"/>
            </a:avLst>
          </a:prstGeom>
          <a:gradFill rotWithShape="0">
            <a:gsLst>
              <a:gs pos="0">
                <a:srgbClr val="9900cc">
                  <a:alpha val="72156"/>
                </a:srgbClr>
              </a:gs>
              <a:gs pos="50000">
                <a:srgbClr val="bbe0e3"/>
              </a:gs>
              <a:gs pos="100000">
                <a:srgbClr val="9900cc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4869000"/>
            <a:ext cx="3457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working together and now we are counting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335480" y="3251160"/>
            <a:ext cx="4808520" cy="360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651640" cy="423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265640"/>
            <a:ext cx="4465800" cy="2592360"/>
          </a:xfrm>
          <a:prstGeom prst="wedgeEllipseCallout">
            <a:avLst>
              <a:gd name="adj1" fmla="val 41078"/>
              <a:gd name="adj2" fmla="val -82824"/>
            </a:avLst>
          </a:prstGeom>
          <a:gradFill rotWithShape="0">
            <a:gsLst>
              <a:gs pos="0">
                <a:srgbClr val="99ff66">
                  <a:alpha val="72156"/>
                </a:srgbClr>
              </a:gs>
              <a:gs pos="50000">
                <a:srgbClr val="eeb0de"/>
              </a:gs>
              <a:gs pos="100000">
                <a:srgbClr val="99ff66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2354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6 children in our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2556000"/>
            <a:ext cx="5735520" cy="430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5195880" cy="389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78200" y="4265640"/>
            <a:ext cx="4465800" cy="2592360"/>
          </a:xfrm>
          <a:prstGeom prst="wedgeEllipseCallout">
            <a:avLst>
              <a:gd name="adj1" fmla="val -60097"/>
              <a:gd name="adj2" fmla="val -74861"/>
            </a:avLst>
          </a:prstGeom>
          <a:gradFill rotWithShape="0">
            <a:gsLst>
              <a:gs pos="0">
                <a:srgbClr val="ffcc00"/>
              </a:gs>
              <a:gs pos="100000">
                <a:srgbClr val="ff3300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6560" y="52941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2 boys and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73680" y="0"/>
            <a:ext cx="5170320" cy="3878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0" t="0" r="5911" b="0"/>
          <a:stretch/>
        </p:blipFill>
        <p:spPr>
          <a:xfrm>
            <a:off x="0" y="321300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78200" y="4265640"/>
            <a:ext cx="4465800" cy="2592360"/>
          </a:xfrm>
          <a:prstGeom prst="wedgeEllipseCallout">
            <a:avLst>
              <a:gd name="adj1" fmla="val -34643"/>
              <a:gd name="adj2" fmla="val -81722"/>
            </a:avLst>
          </a:prstGeom>
          <a:gradFill rotWithShape="0">
            <a:gsLst>
              <a:gs pos="0">
                <a:srgbClr val="ffff99">
                  <a:alpha val="72156"/>
                </a:srgbClr>
              </a:gs>
              <a:gs pos="50000">
                <a:srgbClr val="b0e8ee"/>
              </a:gs>
              <a:gs pos="100000">
                <a:srgbClr val="ffff99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8200" y="501336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there are 14 gir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you like to work with 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9:56:48Z</dcterms:created>
  <dc:creator>Sobremesa</dc:creator>
  <dc:description/>
  <dc:language>en-US</dc:language>
  <cp:lastModifiedBy>Sobremesa</cp:lastModifiedBy>
  <dcterms:modified xsi:type="dcterms:W3CDTF">2011-10-13T17:38:25Z</dcterms:modified>
  <cp:revision>10</cp:revision>
  <dc:subject/>
  <dc:title>Diapositiva 1</dc:title>
</cp:coreProperties>
</file>